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8.gif" ContentType="image/gif"/>
  <Override PartName="/ppt/media/image18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505F54-24B7-43F1-82C1-EB76D028562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EB9857-2F67-4623-84CB-87E6AA54F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95CC69-DD23-40FC-A636-A123707D3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2C607F-5AB0-4EB2-84C6-9F1C94F7525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F48D9E-956A-47EC-9934-8F04449D8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C9414F-AE1A-442B-A7FD-8549B0847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57FF41-D971-4137-B73D-B745D6EA5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523675-5639-4D77-B5F7-25179A268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8E2658-0037-44C0-923F-03DB18011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1861ED-305B-4D61-8FCF-2E3CE440E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B7460D-38C9-4F01-8193-301AFE142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715CCF-C683-43EB-9A6C-13D4F881F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16DEA-DAAC-4FD6-B41A-700206A40D0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" Target="slide5.xml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0560" y="2781360"/>
            <a:ext cx="69246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Verdana"/>
              </a:rPr>
              <a:t>第十二节  呕血与黑便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Text Box 2"/>
          <p:cNvSpPr/>
          <p:nvPr/>
        </p:nvSpPr>
        <p:spPr>
          <a:xfrm>
            <a:off x="685800" y="457200"/>
            <a:ext cx="48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十二指肠降部溃疡出血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2" name="Picture 3" descr="8"/>
          <p:cNvPicPr/>
          <p:nvPr/>
        </p:nvPicPr>
        <p:blipFill>
          <a:blip r:embed="rId1"/>
          <a:stretch/>
        </p:blipFill>
        <p:spPr>
          <a:xfrm>
            <a:off x="685800" y="1828800"/>
            <a:ext cx="3828960" cy="34624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4" descr="8"/>
          <p:cNvPicPr/>
          <p:nvPr/>
        </p:nvPicPr>
        <p:blipFill>
          <a:blip r:embed="rId2"/>
          <a:stretch/>
        </p:blipFill>
        <p:spPr>
          <a:xfrm>
            <a:off x="4643280" y="1828800"/>
            <a:ext cx="3886200" cy="347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436320"/>
            <a:ext cx="8077320" cy="2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病   因（呕血与黑便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黑体"/>
              </a:rPr>
              <a:t>（一）食管疾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黑体"/>
              </a:rPr>
              <a:t>（二）胃、十二指肠疾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Verdana"/>
                <a:ea typeface="黑体"/>
              </a:rPr>
              <a:t>（三）肝、胆道疾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黑体"/>
              </a:rPr>
              <a:t>（四）胰腺疾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黑体"/>
              </a:rPr>
              <a:t>（五）全身性疾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8" name="Picture 4" descr="15"/>
          <p:cNvPicPr/>
          <p:nvPr/>
        </p:nvPicPr>
        <p:blipFill>
          <a:blip r:embed="rId1"/>
          <a:stretch/>
        </p:blipFill>
        <p:spPr>
          <a:xfrm>
            <a:off x="1415880" y="0"/>
            <a:ext cx="638352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Text Box 2"/>
          <p:cNvSpPr/>
          <p:nvPr/>
        </p:nvSpPr>
        <p:spPr>
          <a:xfrm>
            <a:off x="4556160" y="260280"/>
            <a:ext cx="4114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食管静脉曲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1" name="Picture 3" descr="J:\xhnj\xiao\4-5-30a.jpg"/>
          <p:cNvPicPr/>
          <p:nvPr/>
        </p:nvPicPr>
        <p:blipFill>
          <a:blip r:embed="rId1"/>
          <a:stretch/>
        </p:blipFill>
        <p:spPr>
          <a:xfrm>
            <a:off x="76320" y="1700280"/>
            <a:ext cx="4495680" cy="41860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4" descr="图片3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4675320" y="1700280"/>
            <a:ext cx="436068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胆道出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6" name="Picture 4" descr="胆道出血"/>
          <p:cNvPicPr/>
          <p:nvPr/>
        </p:nvPicPr>
        <p:blipFill>
          <a:blip r:embed="rId1"/>
          <a:stretch/>
        </p:blipFill>
        <p:spPr>
          <a:xfrm>
            <a:off x="317520" y="1403280"/>
            <a:ext cx="4444920" cy="48006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5" descr="est术后出血"/>
          <p:cNvPicPr/>
          <p:nvPr/>
        </p:nvPicPr>
        <p:blipFill>
          <a:blip r:embed="rId2"/>
          <a:stretch/>
        </p:blipFill>
        <p:spPr>
          <a:xfrm>
            <a:off x="4716360" y="1628640"/>
            <a:ext cx="4013280" cy="4464360"/>
          </a:xfrm>
          <a:prstGeom prst="rect">
            <a:avLst/>
          </a:prstGeom>
          <a:ln w="0">
            <a:noFill/>
          </a:ln>
        </p:spPr>
      </p:pic>
      <p:sp>
        <p:nvSpPr>
          <p:cNvPr id="158" name="Rectangle 6"/>
          <p:cNvSpPr/>
          <p:nvPr/>
        </p:nvSpPr>
        <p:spPr>
          <a:xfrm>
            <a:off x="468360" y="1557360"/>
            <a:ext cx="8136000" cy="4535640"/>
          </a:xfrm>
          <a:prstGeom prst="rect">
            <a:avLst/>
          </a:pr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436320"/>
            <a:ext cx="8077320" cy="2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病   因（呕血与黑便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黑体"/>
              </a:rPr>
              <a:t>（一）食管疾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黑体"/>
              </a:rPr>
              <a:t>（二）胃、十二指肠疾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黑体"/>
              </a:rPr>
              <a:t>（三）肝、胆道疾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Verdana"/>
                <a:ea typeface="黑体"/>
              </a:rPr>
              <a:t>（四）胰腺疾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Verdana"/>
                <a:ea typeface="黑体"/>
              </a:rPr>
              <a:t>（五）全身性疾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68000" y="1599840"/>
            <a:ext cx="83516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过程：</a:t>
            </a:r>
            <a:r>
              <a:rPr b="0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前兆，呕出血性胃内容物，继而黑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出血部位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幽门以上：</a:t>
            </a:r>
            <a:r>
              <a:rPr b="0" lang="zh-CN" sz="2800" spc="-1" strike="noStrike">
                <a:solidFill>
                  <a:srgbClr val="969696"/>
                </a:solidFill>
                <a:latin typeface="黑体"/>
                <a:ea typeface="黑体"/>
              </a:rPr>
              <a:t>呕血</a:t>
            </a:r>
            <a:r>
              <a:rPr b="0" lang="en-US" sz="2800" spc="-1" strike="noStrike">
                <a:solidFill>
                  <a:srgbClr val="969696"/>
                </a:solidFill>
                <a:latin typeface="黑体"/>
                <a:ea typeface="黑体"/>
              </a:rPr>
              <a:t>+</a:t>
            </a:r>
            <a:r>
              <a:rPr b="0" lang="zh-CN" sz="2800" spc="-1" strike="noStrike">
                <a:solidFill>
                  <a:srgbClr val="969696"/>
                </a:solidFill>
                <a:latin typeface="黑体"/>
                <a:ea typeface="黑体"/>
              </a:rPr>
              <a:t>黑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幽门以下：</a:t>
            </a:r>
            <a:r>
              <a:rPr b="0" lang="zh-CN" sz="2800" spc="-1" strike="noStrike">
                <a:solidFill>
                  <a:srgbClr val="969696"/>
                </a:solidFill>
                <a:latin typeface="黑体"/>
                <a:ea typeface="黑体"/>
              </a:rPr>
              <a:t>黑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出血量及在胃内停留时间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出血量大，时间短，</a:t>
            </a:r>
            <a:r>
              <a:rPr b="0" lang="zh-CN" sz="2800" spc="-1" strike="noStrike">
                <a:solidFill>
                  <a:srgbClr val="969696"/>
                </a:solidFill>
                <a:latin typeface="黑体"/>
                <a:ea typeface="黑体"/>
              </a:rPr>
              <a:t>呕血鲜红色，紫红色稀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出血量小，时间长，</a:t>
            </a:r>
            <a:r>
              <a:rPr b="0" lang="zh-CN" sz="2800" spc="-1" strike="noStrike">
                <a:solidFill>
                  <a:srgbClr val="969696"/>
                </a:solidFill>
                <a:latin typeface="黑体"/>
                <a:ea typeface="黑体"/>
              </a:rPr>
              <a:t>呕血咖啡色，稠厚黑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失血量估计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7" name="Picture 4" descr="zhd21"/>
          <p:cNvPicPr/>
          <p:nvPr/>
        </p:nvPicPr>
        <p:blipFill>
          <a:blip r:embed="rId1"/>
          <a:srcRect l="10063" t="32362" r="8534" b="26780"/>
          <a:stretch/>
        </p:blipFill>
        <p:spPr>
          <a:xfrm>
            <a:off x="250920" y="1268280"/>
            <a:ext cx="8642160" cy="518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9" name="Picture 2" descr="zhd22"/>
          <p:cNvPicPr/>
          <p:nvPr/>
        </p:nvPicPr>
        <p:blipFill>
          <a:blip r:embed="rId1"/>
          <a:srcRect l="7518" t="31079" r="6360" b="22906"/>
          <a:stretch/>
        </p:blipFill>
        <p:spPr>
          <a:xfrm>
            <a:off x="250920" y="1557360"/>
            <a:ext cx="8642160" cy="496728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失血量估计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324000" y="3141720"/>
            <a:ext cx="1584000" cy="82548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500ml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10-15%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Text Box 5"/>
          <p:cNvSpPr/>
          <p:nvPr/>
        </p:nvSpPr>
        <p:spPr>
          <a:xfrm>
            <a:off x="395280" y="4292640"/>
            <a:ext cx="1584360" cy="82548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1000ml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20%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Text Box 6"/>
          <p:cNvSpPr/>
          <p:nvPr/>
        </p:nvSpPr>
        <p:spPr>
          <a:xfrm>
            <a:off x="395280" y="5300640"/>
            <a:ext cx="1584360" cy="82548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1500ml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30%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Text Box 7"/>
          <p:cNvSpPr/>
          <p:nvPr/>
        </p:nvSpPr>
        <p:spPr>
          <a:xfrm>
            <a:off x="2843280" y="3429000"/>
            <a:ext cx="1800000" cy="39888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</a:rPr>
              <a:t>（头晕，畏寒）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咯血与呕血的鉴别诊断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179280" y="1268280"/>
          <a:ext cx="8713800" cy="4740480"/>
        </p:xfrm>
        <a:graphic>
          <a:graphicData uri="http://schemas.openxmlformats.org/drawingml/2006/table">
            <a:tbl>
              <a:tblPr/>
              <a:tblGrid>
                <a:gridCol w="1800360"/>
                <a:gridCol w="3313080"/>
                <a:gridCol w="3600360"/>
              </a:tblGrid>
              <a:tr h="40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ff0000"/>
                          </a:solidFill>
                          <a:latin typeface="楷体_GB2312"/>
                          <a:ea typeface="楷体_GB2312"/>
                        </a:rPr>
                        <a:t>咯    血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ff0000"/>
                          </a:solidFill>
                          <a:latin typeface="楷体_GB2312"/>
                          <a:ea typeface="楷体_GB2312"/>
                        </a:rPr>
                        <a:t>呕    血</a:t>
                      </a:r>
                      <a:r>
                        <a:rPr b="0" lang="zh-CN" sz="1800" spc="-1" strike="noStrike">
                          <a:solidFill>
                            <a:srgbClr val="996633"/>
                          </a:solidFill>
                          <a:latin typeface="楷体_GB2312"/>
                          <a:ea typeface="楷体_GB2312"/>
                        </a:rPr>
                        <a:t>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723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66ff"/>
                          </a:solidFill>
                          <a:latin typeface="楷体_GB2312"/>
                          <a:ea typeface="楷体_GB2312"/>
                        </a:rPr>
                        <a:t>病因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8ac8de"/>
                          </a:solidFill>
                          <a:latin typeface="楷体_GB2312"/>
                          <a:ea typeface="楷体_GB2312"/>
                        </a:rPr>
                        <a:t>肺结核、支气管扩张症、肺炎、肺脓肿、肺癌、心脏病等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8ac8de"/>
                          </a:solidFill>
                          <a:latin typeface="楷体_GB2312"/>
                          <a:ea typeface="楷体_GB2312"/>
                        </a:rPr>
                        <a:t>消化性渍病、肝硬化、急性糜烂出血性胃炎、胆道出血等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66ff"/>
                          </a:solidFill>
                          <a:latin typeface="楷体_GB2312"/>
                          <a:ea typeface="楷体_GB2312"/>
                        </a:rPr>
                        <a:t>出血前症状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8ac8de"/>
                          </a:solidFill>
                          <a:latin typeface="楷体_GB2312"/>
                          <a:ea typeface="楷体_GB2312"/>
                        </a:rPr>
                        <a:t>喉部痒感、胸闻、咳嗽等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8ac8de"/>
                          </a:solidFill>
                          <a:latin typeface="楷体_GB2312"/>
                          <a:ea typeface="楷体_GB2312"/>
                        </a:rPr>
                        <a:t>上腹不适、恶心、呕吐等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408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66ff"/>
                          </a:solidFill>
                          <a:latin typeface="楷体_GB2312"/>
                          <a:ea typeface="楷体_GB2312"/>
                        </a:rPr>
                        <a:t>出血方式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8ac8de"/>
                          </a:solidFill>
                          <a:latin typeface="楷体_GB2312"/>
                          <a:ea typeface="楷体_GB2312"/>
                        </a:rPr>
                        <a:t>咯出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8ac8de"/>
                          </a:solidFill>
                          <a:latin typeface="楷体_GB2312"/>
                          <a:ea typeface="楷体_GB2312"/>
                        </a:rPr>
                        <a:t>呕出，可为喷射状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409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66ff"/>
                          </a:solidFill>
                          <a:latin typeface="楷体_GB2312"/>
                          <a:ea typeface="楷体_GB2312"/>
                        </a:rPr>
                        <a:t>血色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8ac8de"/>
                          </a:solidFill>
                          <a:latin typeface="楷体_GB2312"/>
                          <a:ea typeface="楷体_GB2312"/>
                        </a:rPr>
                        <a:t>鲜红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8ac8de"/>
                          </a:solidFill>
                          <a:latin typeface="楷体_GB2312"/>
                          <a:ea typeface="楷体_GB2312"/>
                        </a:rPr>
                        <a:t>棕黑、暗红、有时鲜红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66ff"/>
                          </a:solidFill>
                          <a:latin typeface="楷体_GB2312"/>
                          <a:ea typeface="楷体_GB2312"/>
                        </a:rPr>
                        <a:t>血中混有物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8ac8de"/>
                          </a:solidFill>
                          <a:latin typeface="楷体_GB2312"/>
                          <a:ea typeface="楷体_GB2312"/>
                        </a:rPr>
                        <a:t>痰、泡沫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8ac8de"/>
                          </a:solidFill>
                          <a:latin typeface="楷体_GB2312"/>
                          <a:ea typeface="楷体_GB2312"/>
                        </a:rPr>
                        <a:t>食物残渣、胃液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40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66ff"/>
                          </a:solidFill>
                          <a:latin typeface="楷体_GB2312"/>
                          <a:ea typeface="楷体_GB2312"/>
                        </a:rPr>
                        <a:t>酸碱反应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8ac8de"/>
                          </a:solidFill>
                          <a:latin typeface="楷体_GB2312"/>
                          <a:ea typeface="楷体_GB2312"/>
                        </a:rPr>
                        <a:t>碱性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8ac8de"/>
                          </a:solidFill>
                          <a:latin typeface="楷体_GB2312"/>
                          <a:ea typeface="楷体_GB2312"/>
                        </a:rPr>
                        <a:t>酸性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72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66ff"/>
                          </a:solidFill>
                          <a:latin typeface="楷体_GB2312"/>
                          <a:ea typeface="楷体_GB2312"/>
                        </a:rPr>
                        <a:t>黑便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8ac8de"/>
                          </a:solidFill>
                          <a:latin typeface="楷体_GB2312"/>
                          <a:ea typeface="楷体_GB2312"/>
                        </a:rPr>
                        <a:t>除非咽下，否则没有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8ac8de"/>
                          </a:solidFill>
                          <a:latin typeface="楷体_GB2312"/>
                          <a:ea typeface="楷体_GB2312"/>
                        </a:rPr>
                        <a:t>有，可为柏油样便，呕血停止后仍持续数日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723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66ff"/>
                          </a:solidFill>
                          <a:latin typeface="楷体_GB2312"/>
                          <a:ea typeface="楷体_GB2312"/>
                        </a:rPr>
                        <a:t>出血后痰性状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8ac8de"/>
                          </a:solidFill>
                          <a:latin typeface="楷体_GB2312"/>
                          <a:ea typeface="楷体_GB2312"/>
                        </a:rPr>
                        <a:t>常有血痰数日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8ac8de"/>
                          </a:solidFill>
                          <a:latin typeface="楷体_GB2312"/>
                          <a:ea typeface="楷体_GB2312"/>
                        </a:rPr>
                        <a:t>无痰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</a:rPr>
              <a:t>教学目标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识记：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正确阐述呕血的概念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正确阐述黑便的概念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正确说出呕血的病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正确说出黑便的病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理解：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用自己语言阐述呕血的临床表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用自己语言阐述黑便的临床表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运用：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运用本节所学知识，能针对呕血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/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黑便的患者作出全面准确的护理评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根据护理评估，能正确作出护理诊断，并列出相关因素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问诊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相关疾病史及诱发因素（饮食、药物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呕血咯血鉴别、黑便（食物、药物），并排除相关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特点：次数、量、颜色、性状及变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对功能性健康型态的影响：循环血量不足、情绪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黑体"/>
              </a:rPr>
              <a:t>组织灌注量不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黑体"/>
              </a:rPr>
              <a:t>活动无耐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黑体"/>
              </a:rPr>
              <a:t>恐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黑体"/>
              </a:rPr>
              <a:t>潜在并发症：休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黑体"/>
              </a:rPr>
              <a:t>有误吸的危险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黑体"/>
              </a:rPr>
              <a:t>焦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09" name="Picture 2" descr="dy13"/>
          <p:cNvPicPr/>
          <p:nvPr/>
        </p:nvPicPr>
        <p:blipFill>
          <a:blip r:embed="rId1"/>
          <a:srcRect l="11408" t="17455" r="42120" b="15481"/>
          <a:stretch/>
        </p:blipFill>
        <p:spPr>
          <a:xfrm>
            <a:off x="900000" y="1413000"/>
            <a:ext cx="3915000" cy="45082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3" descr="dy16"/>
          <p:cNvPicPr/>
          <p:nvPr/>
        </p:nvPicPr>
        <p:blipFill>
          <a:blip r:embed="rId2"/>
          <a:srcRect l="11408" t="17467" r="42120" b="16093"/>
          <a:stretch/>
        </p:blipFill>
        <p:spPr>
          <a:xfrm>
            <a:off x="4859280" y="1414440"/>
            <a:ext cx="3780000" cy="446256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85480" y="369720"/>
            <a:ext cx="552276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幼圆"/>
              </a:rPr>
              <a:t>部位与范围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Rectangle 7"/>
          <p:cNvSpPr/>
          <p:nvPr/>
        </p:nvSpPr>
        <p:spPr>
          <a:xfrm>
            <a:off x="468360" y="1413000"/>
            <a:ext cx="8209080" cy="51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4" name="Picture 2" descr="GITractbig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1258920" y="1413000"/>
            <a:ext cx="3411360" cy="468000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3"/>
          <p:cNvSpPr/>
          <p:nvPr/>
        </p:nvSpPr>
        <p:spPr>
          <a:xfrm>
            <a:off x="5708880" y="328140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上消化道出血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5637600" y="465300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下消化道出血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AutoShape 5"/>
          <p:cNvSpPr/>
          <p:nvPr/>
        </p:nvSpPr>
        <p:spPr>
          <a:xfrm>
            <a:off x="3635280" y="3487680"/>
            <a:ext cx="1600200" cy="228600"/>
          </a:xfrm>
          <a:prstGeom prst="leftArrow">
            <a:avLst>
              <a:gd name="adj1" fmla="val 50000"/>
              <a:gd name="adj2" fmla="val 175000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AutoShape 6"/>
          <p:cNvSpPr/>
          <p:nvPr/>
        </p:nvSpPr>
        <p:spPr>
          <a:xfrm>
            <a:off x="3635280" y="4913280"/>
            <a:ext cx="1676520" cy="228600"/>
          </a:xfrm>
          <a:prstGeom prst="leftArrow">
            <a:avLst>
              <a:gd name="adj1" fmla="val 50000"/>
              <a:gd name="adj2" fmla="val 183346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9" name="Picture 7" descr="D"/>
          <p:cNvPicPr/>
          <p:nvPr/>
        </p:nvPicPr>
        <p:blipFill>
          <a:blip r:embed="rId2"/>
          <a:stretch/>
        </p:blipFill>
        <p:spPr>
          <a:xfrm>
            <a:off x="4137120" y="3933720"/>
            <a:ext cx="571320" cy="4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Rectangle 2"/>
          <p:cNvSpPr/>
          <p:nvPr/>
        </p:nvSpPr>
        <p:spPr>
          <a:xfrm>
            <a:off x="0" y="1219320"/>
            <a:ext cx="6629400" cy="75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Rectangle 3"/>
          <p:cNvSpPr/>
          <p:nvPr/>
        </p:nvSpPr>
        <p:spPr>
          <a:xfrm>
            <a:off x="250920" y="1413000"/>
            <a:ext cx="8569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呕血：指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屈氏韧带以上</a:t>
            </a:r>
            <a:r>
              <a:rPr b="1" lang="zh-CN" sz="3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的消化道出血，血液经口腔呕出的现象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。（上消化道出血</a:t>
            </a:r>
            <a:r>
              <a:rPr b="1" lang="zh-CN" sz="3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609480" indent="-60948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黑便：上消化道出血时血液经肠道排出，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色黑</a:t>
            </a:r>
            <a:r>
              <a:rPr b="1" lang="zh-CN" sz="3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而称之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。柏油便（上消化道出血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       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Rectangle 7"/>
          <p:cNvSpPr/>
          <p:nvPr/>
        </p:nvSpPr>
        <p:spPr>
          <a:xfrm>
            <a:off x="7268040" y="27792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隶书"/>
              </a:rPr>
              <a:t>定  义</a:t>
            </a:r>
            <a:endParaRPr b="0" lang="en-US" sz="4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0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436320"/>
            <a:ext cx="8077320" cy="2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病   因（呕血与黑便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Verdana"/>
                <a:ea typeface="黑体"/>
              </a:rPr>
              <a:t>（一）食管疾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黑体"/>
              </a:rPr>
              <a:t>（二）胃、十二指肠疾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黑体"/>
              </a:rPr>
              <a:t>（三）肝、胆道疾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黑体"/>
              </a:rPr>
              <a:t>（四）胰腺疾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黑体"/>
              </a:rPr>
              <a:t>（五）全身性疾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403360" y="369720"/>
            <a:ext cx="5943600" cy="36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食管溃疡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29" name="Picture 3" descr="eso-ulcer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11280" y="1484280"/>
            <a:ext cx="4032000" cy="43210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4" descr="胃角切部溃疡（A1期）"/>
          <p:cNvPicPr/>
          <p:nvPr/>
        </p:nvPicPr>
        <p:blipFill>
          <a:blip r:embed="rId3"/>
          <a:stretch/>
        </p:blipFill>
        <p:spPr>
          <a:xfrm>
            <a:off x="4716360" y="1484280"/>
            <a:ext cx="3959280" cy="432108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5"/>
          <p:cNvSpPr/>
          <p:nvPr/>
        </p:nvSpPr>
        <p:spPr>
          <a:xfrm>
            <a:off x="539640" y="1413000"/>
            <a:ext cx="8209080" cy="4464000"/>
          </a:xfrm>
          <a:prstGeom prst="rect">
            <a:avLst/>
          </a:pr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食管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34" name="Picture 4" descr="ESO_TUMOR_1G2_150_16930"/>
          <p:cNvPicPr/>
          <p:nvPr/>
        </p:nvPicPr>
        <p:blipFill>
          <a:blip r:embed="rId1"/>
          <a:stretch/>
        </p:blipFill>
        <p:spPr>
          <a:xfrm>
            <a:off x="539640" y="1628640"/>
            <a:ext cx="3961080" cy="39610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5" descr="ESO_CA_1_150"/>
          <p:cNvPicPr/>
          <p:nvPr/>
        </p:nvPicPr>
        <p:blipFill>
          <a:blip r:embed="rId2"/>
          <a:stretch/>
        </p:blipFill>
        <p:spPr>
          <a:xfrm>
            <a:off x="4572000" y="1628640"/>
            <a:ext cx="3960720" cy="396108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6"/>
          <p:cNvSpPr/>
          <p:nvPr/>
        </p:nvSpPr>
        <p:spPr>
          <a:xfrm>
            <a:off x="324000" y="1557360"/>
            <a:ext cx="8208720" cy="4248000"/>
          </a:xfrm>
          <a:prstGeom prst="rect">
            <a:avLst/>
          </a:pr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436320"/>
            <a:ext cx="8077320" cy="2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病   因（呕血与黑便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黑体"/>
              </a:rPr>
              <a:t>（一）食管疾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Verdana"/>
                <a:ea typeface="黑体"/>
              </a:rPr>
              <a:t>（二）胃、十二指肠疾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黑体"/>
              </a:rPr>
              <a:t>（三）肝、胆道疾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黑体"/>
              </a:rPr>
              <a:t>（四）胰腺疾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黑体"/>
              </a:rPr>
              <a:t>（五）全身性疾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3T03:28:50Z</dcterms:created>
  <dc:creator>yi</dc:creator>
  <dc:description/>
  <dc:language>en-US</dc:language>
  <cp:lastModifiedBy>赵欣</cp:lastModifiedBy>
  <dcterms:modified xsi:type="dcterms:W3CDTF">2015-12-16T07:59:02Z</dcterms:modified>
  <cp:revision>106</cp:revision>
  <dc:subject/>
  <dc:title>咯　血 (hemoptysis)</dc:title>
</cp:coreProperties>
</file>